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0D6A-FF65-4263-A309-91EF2F57CCF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5387-0F3E-4AC4-85BB-948C1D77234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8DFC-9B80-4655-A0B9-F6159681B5C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4754-B264-44CD-90DF-A192D046D36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E151-E87B-4E5F-81F2-65A3F4EA6AD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94AB-D4D8-4E37-A088-2F8F4C52F2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D95D5-564C-4FA1-A89B-28440402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60625-2A23-4633-BCBB-5EA795C9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E70D6-21DA-476F-A430-5A2FD64995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FB177-EFFF-42AD-B7C9-02A228BA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F320F-5F93-4EB4-8A7A-ADA32F6B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A2A4F-BDEA-4E4C-BB22-68BDEBA7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294A-5025-49C0-BEAA-41752CFF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A3E14-B334-493F-8410-CCA83C45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AF7FA-9971-42A7-BC79-F6F93FB7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A5777-A5FF-47BC-9139-BAC4997C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FA61-D7C5-4609-A16F-D1866A33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1A51-6285-4694-99FB-F7A85A8D27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3BDE-875D-436C-8C8D-AD2C38CB6589}" type="datetime">
              <a:rPr b="0" lang="zh-CN" sz="1000" spc="-1" strike="noStrike">
                <a:solidFill>
                  <a:srgbClr val="ffffff"/>
                </a:solidFill>
                <a:latin typeface="Verdana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365360"/>
            <a:ext cx="5685120" cy="19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十节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神经系统评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BB9E-3DCD-4E33-9904-2978FB1C6EC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4" descr="DSC01884"/>
          <p:cNvPicPr/>
          <p:nvPr/>
        </p:nvPicPr>
        <p:blipFill>
          <a:blip r:embed="rId1"/>
          <a:srcRect l="16796" t="3267" r="20759" b="3267"/>
          <a:stretch/>
        </p:blipFill>
        <p:spPr>
          <a:xfrm>
            <a:off x="2195640" y="1916280"/>
            <a:ext cx="1190520" cy="133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5" name="Picture 3" descr="DSC01881"/>
          <p:cNvPicPr/>
          <p:nvPr/>
        </p:nvPicPr>
        <p:blipFill>
          <a:blip r:embed="rId2"/>
          <a:srcRect l="12348" t="6507" r="23743" b="11400"/>
          <a:stretch/>
        </p:blipFill>
        <p:spPr>
          <a:xfrm>
            <a:off x="3983040" y="1928880"/>
            <a:ext cx="1303200" cy="1263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DSC01880"/>
          <p:cNvPicPr/>
          <p:nvPr/>
        </p:nvPicPr>
        <p:blipFill>
          <a:blip r:embed="rId3"/>
          <a:stretch/>
        </p:blipFill>
        <p:spPr>
          <a:xfrm>
            <a:off x="4932360" y="393372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实物觉"/>
          <p:cNvPicPr/>
          <p:nvPr/>
        </p:nvPicPr>
        <p:blipFill>
          <a:blip r:embed="rId4"/>
          <a:stretch/>
        </p:blipFill>
        <p:spPr>
          <a:xfrm>
            <a:off x="1500120" y="3916440"/>
            <a:ext cx="1381320" cy="1218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-973080" y="4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422240" y="2453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442040" y="6843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243540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痛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25"/>
          <p:cNvSpPr/>
          <p:nvPr/>
        </p:nvSpPr>
        <p:spPr>
          <a:xfrm>
            <a:off x="429264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触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26"/>
          <p:cNvSpPr/>
          <p:nvPr/>
        </p:nvSpPr>
        <p:spPr>
          <a:xfrm>
            <a:off x="5450760" y="5273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两点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Box 27"/>
          <p:cNvSpPr/>
          <p:nvPr/>
        </p:nvSpPr>
        <p:spPr>
          <a:xfrm>
            <a:off x="1807560" y="521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实物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5" name="Picture 12" descr="D:\sun\教学\评估\图片\扫描图\其他\震动觉.jpg"/>
          <p:cNvPicPr/>
          <p:nvPr/>
        </p:nvPicPr>
        <p:blipFill>
          <a:blip r:embed="rId5"/>
          <a:stretch/>
        </p:blipFill>
        <p:spPr>
          <a:xfrm>
            <a:off x="3429000" y="3916440"/>
            <a:ext cx="1042920" cy="11588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9"/>
          <p:cNvSpPr/>
          <p:nvPr/>
        </p:nvSpPr>
        <p:spPr>
          <a:xfrm>
            <a:off x="3714480" y="5202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振动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2484360" y="242100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4284720" y="234936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4765-9A02-40ED-B972-239FF2FA47B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785880" y="2286000"/>
            <a:ext cx="7500960" cy="36432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痛觉障碍见于脊髓丘脑侧束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触觉障碍见于脊髓丘脑前束和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物辨别觉功能障碍见于皮质病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振动觉障碍见于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触觉正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点辨别觉障碍时则为颞叶病变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0EB3-EC9A-4690-86AC-57E8200DF74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55640" y="1916280"/>
          <a:ext cx="7561440" cy="4498920"/>
        </p:xfrm>
        <a:graphic>
          <a:graphicData uri="http://schemas.openxmlformats.org/drawingml/2006/table">
            <a:tbl>
              <a:tblPr/>
              <a:tblGrid>
                <a:gridCol w="1657440"/>
                <a:gridCol w="590400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临床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无任何收缩（完全瘫痪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可轻微收缩，但不能产生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在床面水平移动，但不能抬离床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抬离床面，但不能克服阻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作抗阻力动作，未达到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力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24C4-A8AC-40E0-A054-33C6926ECAA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瘫痪类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895400"/>
          <a:ext cx="7128000" cy="4557960"/>
        </p:xfrm>
        <a:graphic>
          <a:graphicData uri="http://schemas.openxmlformats.org/drawingml/2006/table">
            <a:tbl>
              <a:tblPr/>
              <a:tblGrid>
                <a:gridCol w="4249800"/>
                <a:gridCol w="287820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病变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瘫痪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某一神经根支配区或某些肌群无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局限性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脑半球、脊髓前角细胞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单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侧大脑半球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偏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脑、脑桥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交叉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脊髓横贯性损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截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颈段脊髓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肢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877E-C7BF-444F-A391-ADA42656C89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上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下运动神经元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内容占位符 6" descr="图片1.png"/>
          <p:cNvPicPr/>
          <p:nvPr/>
        </p:nvPicPr>
        <p:blipFill>
          <a:blip r:embed="rId1"/>
          <a:stretch/>
        </p:blipFill>
        <p:spPr>
          <a:xfrm>
            <a:off x="928800" y="1714680"/>
            <a:ext cx="75009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3B42-6B62-4936-838E-0C24FA80188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张力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143000" y="2214720"/>
          <a:ext cx="7072200" cy="3535200"/>
        </p:xfrm>
        <a:graphic>
          <a:graphicData uri="http://schemas.openxmlformats.org/drawingml/2006/table">
            <a:tbl>
              <a:tblPr/>
              <a:tblGrid>
                <a:gridCol w="1500120"/>
                <a:gridCol w="557208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增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折刀现象：见于锥体束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铅管样强直：见于锥体外系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91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减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周围神经炎、脊髓前角灰质炎或小脑病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自主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71680" y="1928880"/>
          <a:ext cx="8001000" cy="4236840"/>
        </p:xfrm>
        <a:graphic>
          <a:graphicData uri="http://schemas.openxmlformats.org/drawingml/2006/table">
            <a:tbl>
              <a:tblPr/>
              <a:tblGrid>
                <a:gridCol w="1574640"/>
                <a:gridCol w="642636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震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静止性震颤：见于帕金森病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意向性震颤：见于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姿势性震颤：如甲状腺功能亢进时，患者可表现为两上肢平伸时手指的细震颤。肝性脑病时出现扑翼样震颤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舞蹈样运动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表现为“做鬼脸”、耸肩、转颈等舞蹈样动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睡眠时可减轻或消失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见于</a:t>
                      </a:r>
                      <a:r>
                        <a:rPr b="1" lang="zh-CN" sz="2000" spc="-1" strike="noStrike">
                          <a:solidFill>
                            <a:srgbClr val="fe230c"/>
                          </a:solidFill>
                          <a:latin typeface="宋体"/>
                        </a:rPr>
                        <a:t>儿童期脑风湿性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手足徐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脑性瘫痪和脑基底核变性等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20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5342-7E0A-47A9-BAC6-725556C31C9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共济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85840" y="1785960"/>
          <a:ext cx="8858160" cy="5010120"/>
        </p:xfrm>
        <a:graphic>
          <a:graphicData uri="http://schemas.openxmlformats.org/drawingml/2006/table">
            <a:tbl>
              <a:tblPr/>
              <a:tblGrid>
                <a:gridCol w="2442960"/>
                <a:gridCol w="6415200"/>
              </a:tblGrid>
              <a:tr h="138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指鼻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共济失调者多指鼻有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脑半球病变者同侧指鼻不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如睁眼时指鼻准确，闭眼时出现障碍为感觉性共济失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跟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膝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胫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小脑损害时动作不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感觉性共济失调者闭眼时足跟难以寻到膝盖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轮替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共济失调者动作缓慢、不协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难立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(Romber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仅闭目不稳者提示感觉性共济失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睁目皆不稳者提示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20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B369-EB38-462D-AC5C-0E4F3E145C7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403280" y="2781360"/>
            <a:ext cx="7128000" cy="2064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眼睛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向内上方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注视，评估者将棉签絮捻成细束，用其末端轻触一侧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角膜外缘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正常反应为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眼睑迅速闭合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5DD9-B2BE-4322-95F3-4B1F1FC7A09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755640" y="2637000"/>
            <a:ext cx="8137440" cy="26949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异常反应及临床意义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三叉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和间接角膜反射均消失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面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角膜反射消失，间接角膜反射存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深昏迷患者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双侧角膜反射完全消失。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B299-674A-44C8-82C7-6275EB5643E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394F-A398-4AB5-97D3-2528048EED4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214280"/>
            <a:ext cx="422892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脑神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皮质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张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不自主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共济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716360" y="1196640"/>
            <a:ext cx="42292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反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病理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脑膜刺激征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887640" y="1557360"/>
            <a:ext cx="5256360" cy="257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取仰卧位，两下肢稍屈曲，使腹壁松弛，评估者用钝头竹签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由外向内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轻划腹上部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腹中部、腹下部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的皮肤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反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受刺激部位</a:t>
            </a:r>
            <a:r>
              <a:rPr b="1" lang="zh-CN" sz="36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腹肌收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Picture 6" descr="图10-1"/>
          <p:cNvPicPr/>
          <p:nvPr/>
        </p:nvPicPr>
        <p:blipFill>
          <a:blip r:embed="rId1"/>
          <a:stretch/>
        </p:blipFill>
        <p:spPr>
          <a:xfrm>
            <a:off x="395280" y="2565360"/>
            <a:ext cx="3157560" cy="3816360"/>
          </a:xfrm>
          <a:prstGeom prst="rect">
            <a:avLst/>
          </a:prstGeom>
          <a:ln w="0">
            <a:noFill/>
          </a:ln>
        </p:spPr>
      </p:pic>
      <p:sp>
        <p:nvSpPr>
          <p:cNvPr id="21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DD1B-8B5E-40E6-A79C-B5E30EF11FB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755640" y="2637000"/>
            <a:ext cx="8064360" cy="24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常反应及临床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脊髓不同节段受损→相应部位的腹壁反射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侧锥体束受损→同侧腹壁反射减弱或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昏迷、急腹症、经产妇、肥胖及老年人等，可因腹壁松弛，使腹壁反射减弱或消失。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8329-B756-4073-9FC2-20108C91AE8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二头肌反射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三头肌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图10-2"/>
          <p:cNvPicPr/>
          <p:nvPr/>
        </p:nvPicPr>
        <p:blipFill>
          <a:blip r:embed="rId1"/>
          <a:stretch/>
        </p:blipFill>
        <p:spPr>
          <a:xfrm>
            <a:off x="539640" y="2565360"/>
            <a:ext cx="3743280" cy="3778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图10-3"/>
          <p:cNvPicPr/>
          <p:nvPr/>
        </p:nvPicPr>
        <p:blipFill>
          <a:blip r:embed="rId2"/>
          <a:stretch/>
        </p:blipFill>
        <p:spPr>
          <a:xfrm>
            <a:off x="5219640" y="2565360"/>
            <a:ext cx="3405240" cy="3745080"/>
          </a:xfrm>
          <a:prstGeom prst="rect">
            <a:avLst/>
          </a:prstGeom>
          <a:ln w="0">
            <a:noFill/>
          </a:ln>
        </p:spPr>
      </p:pic>
      <p:sp>
        <p:nvSpPr>
          <p:cNvPr id="2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4173-016A-4702-AB3C-FD8F4332B16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膝反射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跟腱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4" descr="图10-4"/>
          <p:cNvPicPr/>
          <p:nvPr/>
        </p:nvPicPr>
        <p:blipFill>
          <a:blip r:embed="rId1"/>
          <a:stretch/>
        </p:blipFill>
        <p:spPr>
          <a:xfrm>
            <a:off x="324000" y="2565360"/>
            <a:ext cx="4824360" cy="3598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图10-5"/>
          <p:cNvPicPr/>
          <p:nvPr/>
        </p:nvPicPr>
        <p:blipFill>
          <a:blip r:embed="rId2"/>
          <a:stretch/>
        </p:blipFill>
        <p:spPr>
          <a:xfrm>
            <a:off x="5435640" y="2852640"/>
            <a:ext cx="3384360" cy="3589560"/>
          </a:xfrm>
          <a:prstGeom prst="rect">
            <a:avLst/>
          </a:prstGeom>
          <a:ln w="0">
            <a:noFill/>
          </a:ln>
        </p:spPr>
      </p:pic>
      <p:sp>
        <p:nvSpPr>
          <p:cNvPr id="23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CB29-584C-4ABF-A9E0-7D31CA994F1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68360" y="2133720"/>
            <a:ext cx="8136000" cy="410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反射强度一般分为以下几级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 反射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1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有收缩，但无相应关节活动，为反射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收缩并导致关节活动，为正常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3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增强，可为正常或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4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亢进并伴有阵挛，为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D472-B455-47B0-86AC-CAF46863CB0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395280" y="2060640"/>
            <a:ext cx="576360" cy="432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异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常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反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应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临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意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1258920" y="2133720"/>
            <a:ext cx="7483320" cy="41529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减弱或消失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下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末梢神经炎、神经根炎脊髓前角灰质炎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增强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上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脑血管病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深反射极度亢进者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可出现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踝阵挛髌阵挛等现象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见于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锥体束以上病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0A13-14A1-442F-848F-D69D42BFF62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403280" y="1989000"/>
            <a:ext cx="7416720" cy="1729080"/>
          </a:xfrm>
          <a:prstGeom prst="wedgeRectCallout">
            <a:avLst>
              <a:gd name="adj1" fmla="val -52268"/>
              <a:gd name="adj2" fmla="val -62578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指锥体束病变导致大脑失去对脑干和脊髓的抑制作用所出现的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异常反射。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1258920" y="4005360"/>
            <a:ext cx="6913440" cy="2352600"/>
          </a:xfrm>
          <a:solidFill>
            <a:srgbClr val="ffc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巴宾斯基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Babinski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奥本海姆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Oppenheim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戈登    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Gordon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查多克    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haddock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5" descr="图10-6"/>
          <p:cNvPicPr/>
          <p:nvPr/>
        </p:nvPicPr>
        <p:blipFill>
          <a:blip r:embed="rId1"/>
          <a:stretch/>
        </p:blipFill>
        <p:spPr>
          <a:xfrm>
            <a:off x="2843280" y="1916280"/>
            <a:ext cx="5832360" cy="424944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6"/>
          <p:cNvSpPr/>
          <p:nvPr/>
        </p:nvSpPr>
        <p:spPr>
          <a:xfrm>
            <a:off x="250920" y="2708280"/>
            <a:ext cx="2232000" cy="3168720"/>
          </a:xfrm>
          <a:prstGeom prst="cloudCallout">
            <a:avLst>
              <a:gd name="adj1" fmla="val 124680"/>
              <a:gd name="adj2" fmla="val -20689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最典型的病理反射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DA91-5D87-4AB0-8985-3B1E9709C75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365400" y="2205000"/>
            <a:ext cx="127764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阳性反应</a:t>
            </a:r>
            <a:r>
              <a:rPr b="0" lang="zh-CN" sz="18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2843280" y="2492280"/>
            <a:ext cx="5545080" cy="1206720"/>
          </a:xfrm>
          <a:prstGeom prst="borderCallout1">
            <a:avLst>
              <a:gd name="adj1" fmla="val 18750"/>
              <a:gd name="adj2" fmla="val -8333"/>
              <a:gd name="adj3" fmla="val -6314"/>
              <a:gd name="adj4" fmla="val -19782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拇趾缓缓背伸，其余四趾呈扇形展开</a:t>
            </a: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1763640" y="4005360"/>
            <a:ext cx="6985080" cy="23763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</a:rPr>
              <a:t>一岁半以内的婴幼儿因锥体束尚未发育完善，上述表现也会出现，但不属于病理反射，应加以鉴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成人出现此类反射时则为病理性的，见于锥体束损害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e230c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DC27-BC95-4CDA-A4C0-88D7F61175B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      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脑膜受刺激的体征，见于各种</a:t>
            </a:r>
            <a:r>
              <a:rPr b="0" lang="zh-CN" sz="3000" spc="-1" strike="noStrike">
                <a:solidFill>
                  <a:srgbClr val="ff0000"/>
                </a:solidFill>
                <a:latin typeface="Verdana"/>
                <a:ea typeface="宋体"/>
              </a:rPr>
              <a:t>脑膜炎、蛛网膜下腔出血、颅内压增高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1785960" y="3429000"/>
            <a:ext cx="6978600" cy="2357280"/>
          </a:xfrm>
          <a:prstGeom prst="borderCallout2">
            <a:avLst>
              <a:gd name="adj1" fmla="val 18750"/>
              <a:gd name="adj2" fmla="val -8333"/>
              <a:gd name="adj3" fmla="val -4421"/>
              <a:gd name="adj4" fmla="val -18865"/>
              <a:gd name="adj5" fmla="val -72657"/>
              <a:gd name="adj6" fmla="val -13282"/>
            </a:avLst>
          </a:prstGeom>
          <a:gradFill rotWithShape="0">
            <a:gsLst>
              <a:gs pos="0">
                <a:srgbClr val="fff8b3"/>
              </a:gs>
              <a:gs pos="50000">
                <a:srgbClr val="ffffff"/>
              </a:gs>
              <a:gs pos="100000">
                <a:srgbClr val="fff8b3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颈项强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克尼格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Kernig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布鲁津斯基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rudzinski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A9A4-E8EF-45CE-9020-84F5E16FF12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880D-19E7-4469-801A-44F04D77652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FACB-4807-444F-B68A-9E5E78A8069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描述神经系统评估的主要内容，正常表现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解释神经系统评估常见异常改变及其临床意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正确进行神经系统的评估，并准确描述评估所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D72C-056E-49F2-8974-FD2D9111CDFB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5" descr="图10-7"/>
          <p:cNvPicPr/>
          <p:nvPr/>
        </p:nvPicPr>
        <p:blipFill>
          <a:blip r:embed="rId1"/>
          <a:stretch/>
        </p:blipFill>
        <p:spPr>
          <a:xfrm>
            <a:off x="285840" y="2500200"/>
            <a:ext cx="4289400" cy="2714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图10-8"/>
          <p:cNvPicPr/>
          <p:nvPr/>
        </p:nvPicPr>
        <p:blipFill>
          <a:blip r:embed="rId2"/>
          <a:stretch/>
        </p:blipFill>
        <p:spPr>
          <a:xfrm>
            <a:off x="4857840" y="1500120"/>
            <a:ext cx="4000320" cy="2519280"/>
          </a:xfrm>
          <a:prstGeom prst="rect">
            <a:avLst/>
          </a:prstGeom>
          <a:ln w="0">
            <a:noFill/>
          </a:ln>
        </p:spPr>
      </p:pic>
      <p:sp>
        <p:nvSpPr>
          <p:cNvPr id="266" name="矩形 5"/>
          <p:cNvSpPr/>
          <p:nvPr/>
        </p:nvSpPr>
        <p:spPr>
          <a:xfrm>
            <a:off x="1357200" y="5715000"/>
            <a:ext cx="128592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rnig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6"/>
          <p:cNvSpPr/>
          <p:nvPr/>
        </p:nvSpPr>
        <p:spPr>
          <a:xfrm>
            <a:off x="5857920" y="4071960"/>
            <a:ext cx="185724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udzinski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灯片编号占位符 7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6BD4-C357-49FA-8EAC-EC6E7011B69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DA22-E073-4061-8013-A91978DCC8A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5840" y="1638360"/>
          <a:ext cx="8286840" cy="4170240"/>
        </p:xfrm>
        <a:graphic>
          <a:graphicData uri="http://schemas.openxmlformats.org/drawingml/2006/table">
            <a:tbl>
              <a:tblPr/>
              <a:tblGrid>
                <a:gridCol w="1801800"/>
                <a:gridCol w="6485040"/>
              </a:tblGrid>
              <a:tr h="161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眼心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可减少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分。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提示副交感神经功能亢进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迷走神经麻痹无反应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迫后脉率不减少反而增加，提示交感神经功能亢进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卧立位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由卧位到立位脉率增加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为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由立位到卧位脉率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减慢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分为副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肤划痕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白色划痕持续时间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，提示交感神经兴奋性增高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如果用棉签杆划压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很快出现红色划痕，且持续时间较长，提示副交感神经兴奋性增高或交感神经麻痹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3AD7-6EAD-4C41-AD7B-50DF397439F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85840" y="1638360"/>
          <a:ext cx="8286840" cy="4022640"/>
        </p:xfrm>
        <a:graphic>
          <a:graphicData uri="http://schemas.openxmlformats.org/drawingml/2006/table">
            <a:tbl>
              <a:tblPr/>
              <a:tblGrid>
                <a:gridCol w="1928880"/>
                <a:gridCol w="6357960"/>
              </a:tblGrid>
              <a:tr h="153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肌由交感神经支配，根据竖毛反射障碍的部位来判断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功能障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发汗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下注射毛果芸香碱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m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作用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节后纤维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而引起出汗，出汗处淀粉变蓝色，无汗处颜色不变，可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协助判断交感神经功能障碍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瓦尔萨尔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人≥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提示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力感受器功能不灵敏或其反射弧的传入纤维或传出纤维损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4FE3-CA5E-49E8-8A46-442ABD356E5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嗅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视神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动眼神经、滑车神经、展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三叉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面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听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咽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迷走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副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下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E67A-1C9A-4AC7-B588-6778273E753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5" descr="暴风截图20156817504812.jpg"/>
          <p:cNvPicPr/>
          <p:nvPr/>
        </p:nvPicPr>
        <p:blipFill>
          <a:blip r:embed="rId1"/>
          <a:stretch/>
        </p:blipFill>
        <p:spPr>
          <a:xfrm>
            <a:off x="785880" y="210024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128" name="矩形 6"/>
          <p:cNvSpPr/>
          <p:nvPr/>
        </p:nvSpPr>
        <p:spPr>
          <a:xfrm>
            <a:off x="1214280" y="428616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嗅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7" descr="暴风截图20156818826500.jpg"/>
          <p:cNvPicPr/>
          <p:nvPr/>
        </p:nvPicPr>
        <p:blipFill>
          <a:blip r:embed="rId2"/>
          <a:stretch/>
        </p:blipFill>
        <p:spPr>
          <a:xfrm>
            <a:off x="364320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0" name="矩形 8"/>
          <p:cNvSpPr/>
          <p:nvPr/>
        </p:nvSpPr>
        <p:spPr>
          <a:xfrm>
            <a:off x="4071960" y="4286160"/>
            <a:ext cx="1357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三叉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图片 9" descr="暴风截图20156818973281.jpg"/>
          <p:cNvPicPr/>
          <p:nvPr/>
        </p:nvPicPr>
        <p:blipFill>
          <a:blip r:embed="rId3"/>
          <a:stretch/>
        </p:blipFill>
        <p:spPr>
          <a:xfrm>
            <a:off x="634032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2" name="矩形 10"/>
          <p:cNvSpPr/>
          <p:nvPr/>
        </p:nvSpPr>
        <p:spPr>
          <a:xfrm>
            <a:off x="7072200" y="421488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面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4714920" y="2714760"/>
            <a:ext cx="647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7358040" y="2857680"/>
            <a:ext cx="72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DB95-DFB2-481B-99FC-8D968E95F99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图片 4" descr="暴风截图20156817818140.jpg"/>
          <p:cNvPicPr/>
          <p:nvPr/>
        </p:nvPicPr>
        <p:blipFill>
          <a:blip r:embed="rId1"/>
          <a:stretch/>
        </p:blipFill>
        <p:spPr>
          <a:xfrm>
            <a:off x="2428920" y="135720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5"/>
          <p:cNvSpPr/>
          <p:nvPr/>
        </p:nvSpPr>
        <p:spPr>
          <a:xfrm>
            <a:off x="2643120" y="342900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听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片 6" descr="暴风截图20156818014656.jpg"/>
          <p:cNvPicPr/>
          <p:nvPr/>
        </p:nvPicPr>
        <p:blipFill>
          <a:blip r:embed="rId2"/>
          <a:stretch/>
        </p:blipFill>
        <p:spPr>
          <a:xfrm>
            <a:off x="5357880" y="1357200"/>
            <a:ext cx="2214360" cy="1771920"/>
          </a:xfrm>
          <a:prstGeom prst="rect">
            <a:avLst/>
          </a:prstGeom>
          <a:ln w="0">
            <a:noFill/>
          </a:ln>
        </p:spPr>
      </p:pic>
      <p:sp>
        <p:nvSpPr>
          <p:cNvPr id="141" name="矩形 8"/>
          <p:cNvSpPr/>
          <p:nvPr/>
        </p:nvSpPr>
        <p:spPr>
          <a:xfrm>
            <a:off x="5429160" y="335772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咽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迷走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9" descr="暴风截图20156818416453.jpg"/>
          <p:cNvPicPr/>
          <p:nvPr/>
        </p:nvPicPr>
        <p:blipFill>
          <a:blip r:embed="rId3"/>
          <a:stretch/>
        </p:blipFill>
        <p:spPr>
          <a:xfrm>
            <a:off x="857160" y="4143240"/>
            <a:ext cx="2268720" cy="1814760"/>
          </a:xfrm>
          <a:prstGeom prst="rect">
            <a:avLst/>
          </a:prstGeom>
          <a:ln w="0">
            <a:noFill/>
          </a:ln>
        </p:spPr>
      </p:pic>
      <p:sp>
        <p:nvSpPr>
          <p:cNvPr id="143" name="矩形 10"/>
          <p:cNvSpPr/>
          <p:nvPr/>
        </p:nvSpPr>
        <p:spPr>
          <a:xfrm>
            <a:off x="128592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副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图片 11" descr="暴风截图20156818566781.jpg"/>
          <p:cNvPicPr/>
          <p:nvPr/>
        </p:nvPicPr>
        <p:blipFill>
          <a:blip r:embed="rId4"/>
          <a:stretch/>
        </p:blipFill>
        <p:spPr>
          <a:xfrm>
            <a:off x="5715000" y="4071960"/>
            <a:ext cx="2357280" cy="1886040"/>
          </a:xfrm>
          <a:prstGeom prst="rect">
            <a:avLst/>
          </a:prstGeom>
          <a:ln w="0">
            <a:noFill/>
          </a:ln>
        </p:spPr>
      </p:pic>
      <p:sp>
        <p:nvSpPr>
          <p:cNvPr id="145" name="矩形 12"/>
          <p:cNvSpPr/>
          <p:nvPr/>
        </p:nvSpPr>
        <p:spPr>
          <a:xfrm>
            <a:off x="635796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下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6072120" y="1500120"/>
            <a:ext cx="792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6572160" y="4214880"/>
            <a:ext cx="72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55FE-476B-4AB4-A434-0754780802B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357120" y="1714680"/>
            <a:ext cx="8501040" cy="4714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嗅觉减退或丧失如能排除鼻黏膜病变，提示同侧嗅神经损害，可见于颅脑创伤、颅前窝占位性病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枢性面瘫只出现病灶对侧下半部表情肌瘫痪，而皱额、闭眼无影响，主要见于脑血管意外、脑肿瘤或炎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舌咽神经受损，表现为吞咽困难、饮水呛咳，见于脑干病变、鼻咽癌转移等。如一侧软腭不能上抬及腭垂偏向健侧，提示该侧迷走神经麻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AEA5-65CD-4B45-8EE8-F8F8BC2DB21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785880" y="1857240"/>
            <a:ext cx="7786800" cy="4429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副神经受损时，可出现患侧肌力下降，表现为向对侧转头及患侧耸肩无力，可伴有患侧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侧舌下神经麻痹时，伸舌偏向患侧，多见于脑血管意外。双侧舌下神经麻痹，不能伸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5EA4-4E25-4DA7-B619-BC5C4863462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一、浅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温度觉、痛觉、触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二、深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觉、位置觉、振动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三、皮质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皮肤定位觉、两点辨别觉、实物辨别觉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9:22:16Z</dcterms:modified>
  <cp:revision>1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